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6B6-B5EA-4729-A9B2-30B5B733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042-8E05-41CB-A447-990DD186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B40E5-A020-48A1-8CAE-203E3A62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4C746-C2C7-4C4E-B830-77381B69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AB1E4-8FA9-4106-960F-2BD8F59F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06875-718D-4485-ACE6-6A957DC4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4F49D-D9AF-41B7-9A04-CC4B7342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95BB6-10B1-4108-8F7E-0733CD33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91894-4C8F-435F-8923-32D862C8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AAD19-A5AB-412B-BEA6-356AFE62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8D37C-006B-4E66-9F69-AC371EEB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B18-9767-4CC4-80EA-504A7816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078-5820-44AB-88A4-274D8B56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74FC-6F21-4ABB-B0A1-55D3D6AB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AB0E-FB1E-4CD6-A904-59A32C5D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C8BA-3C7E-46E0-BAF3-F877F384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DFD6-80EB-47E4-A551-DB4CFC3E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6A2E-7E6A-4E0A-BF6B-DFB55FF2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960B-5C8B-47ED-8B59-02926FA8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C881-D219-47DA-BCFD-F021EDF9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BF2-AB00-4F7D-8FC4-A23A53C8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6AAA-05C5-4569-BB79-6DBAE990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565D-BA56-487B-8DF1-D6332A3D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2FC3-406E-4BE9-A8A4-6D96215C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FF6F-07B9-4A0C-90DD-923B2CCF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298A-43CA-4001-858C-D7AEF4F0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BEBA-A540-4253-9821-D2A735F5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4D8D7-0937-44C6-A034-806BC391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43E2D-AAB1-4715-A0FB-49896DFD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AA02B-FAAA-462A-9742-AF667450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E4B1A-E42C-40ED-AE36-F3FB93BF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DC3-6967-4AF0-8777-682FDCD6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01B54-D4E5-46FC-884C-864D7AB4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19C5-47BB-4798-86C0-4EA53BA4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BA7F-0858-46DA-8C42-4750474C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5A26-5780-4D74-ABF8-B80A8579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B6BE7-734D-467A-A33D-62A007E4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EB4B5-3BD0-46C8-AD4F-AEEFAB3C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A7E2-444E-44FC-9D87-A024D6B9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855B3-C397-4FFC-B9AC-EB9D5E03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E79D-0084-4F65-B66C-5AAAD249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C782D-378F-4AE7-BACC-CD11362F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FE7-1599-4F95-96BA-04879A40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FD01A-0C37-4573-BB8A-F9024B68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FDA1-715C-4287-8987-358DE0FE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D4DA7-F624-47BA-8F04-C8087D3B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5D1C1-8C23-4688-9A93-91F389CE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C6B8-E03F-4558-8F81-23202052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BB7FE-C627-459A-98DC-CEE87E0A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5917B-59F2-4022-91EF-A56DA194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6FEC3-F8CF-47A4-B47F-D7955C97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D70B2-51A4-4BF0-90F7-37815261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EF2C6-ADA3-4508-AD05-475A2A09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019-6513-44A5-8417-9735F185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E7263-8FF1-475A-8EFB-4D68EB69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0881F-0A16-40AF-9BAF-2376B745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8CDA2-AA73-4246-8763-484BA5C2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38D13-E734-410F-9B9E-071613E6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D534A-28D7-4B96-B007-E3EC7EDB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53AC5-E0FE-4A37-BD55-319488A1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C0ACE-61BC-4492-AF34-7DD527DB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E8AB5-0AF6-4B50-BC93-C50D2DC6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6BC74-8DC2-405A-B513-1D6E4E8B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D6086-945B-4D8D-A4F9-15D8818A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50D-C614-4D4F-A7E3-A3CC77EB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341D1-2501-47AB-8E69-39D5F918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504DB-63F9-4757-BA90-A6CE39F5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13BF4-6882-46AA-8E99-F8344473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9DDC1-E759-4C9A-8EEE-7C6ECA2E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43BF5-7038-4915-8C44-352249A7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3F1BB-F271-4EBA-8DC4-799C960F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C92C1-6F78-4981-B3FE-DE826ECB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AE80C-AAAD-4251-A7DB-6963342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E6DDB-1301-4DE4-B150-BA8ABE86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3D389-7B80-477D-8872-42514F3B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768-7EA9-4C82-BA6C-2C64AD37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CB9F2-B4DB-4284-B9E3-01499F75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F0C87-344E-4215-8FFF-49B6AC7A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3CEB4-7F71-4AB1-9EFD-26C8D9DD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7861E-8C74-42A8-B138-E53F3768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3261A-CAC3-4B5E-804A-E22850E5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03F08-01F3-4A41-9BAF-EE365B95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0B006-080B-4F8F-91C6-DB898D55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9C6BE-6365-4C82-AB0E-40BA21E9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74A7B-F91C-48EE-BEFF-70CD3134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F8240-5EAB-4468-BF2E-C7A4A5FF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991-742D-4580-A5EE-C513EEAD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2FF7F-DC6E-40D6-9120-B844BBB7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CF53C-02D9-4BEA-A975-D694E2B7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0E78B-1DDE-400D-BF5E-D1CDB176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4E975-926E-4209-9591-350388C5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0E48F-0E10-41A9-BF15-7A3000AE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D5E19-482D-4218-9A76-254B33D8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E132F-F60B-4DF7-AEF5-F389E1CD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0AFAF-9034-4912-8E19-02EC8DB7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54F62-6284-42F8-901D-F5E82311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3CCF3-1474-477F-84AE-24F294C6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32C-905A-4307-A70D-E6398340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F9570-DCA8-4891-A309-857056E2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8DF36-4D95-4DEC-8A88-4C89D1E6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7A725-009C-4D63-AB0A-BD75D7E8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67DB3-6D58-422D-9193-DD17496F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0E7D4-A24A-443D-B174-73436EB1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E1B45-0335-42C9-B03B-449EAF57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28216-674D-4CBA-8FDA-2DD6EB52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A89A5-9187-4A06-AAFA-6CF7FBA4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F3558-4160-4BE5-A22E-00E6D371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A2C74-3D8E-459E-A354-AC2DDD02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C51E-E365-468A-8B82-989BB5C9B78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8881-DB8A-4500-B8A2-C538B2B1503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8D39-71C3-4AFD-B521-73034595937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4A81-6C8C-4BD4-9F80-870E978D566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A697-BA4C-43C9-9462-4CF13FD17D7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693F-ABD3-46A6-B9C2-232A3D0E3E8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35E2-5431-4F56-9B9A-80EACA5A12F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74DD-7CBA-4020-AA3C-DF28AECAF41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42F5-879B-44E3-A552-A0CF2F18F4D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12760" y="3956040"/>
            <a:ext cx="8632800" cy="1420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55627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Igor Kamzic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Brock Universit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architecture uses a single flat address space of 2³² byt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yte addresses are treated as unsigned numbers running from 0 to 2³² -1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address space is regarded as consisting of  32-bits words each of whose address is word aligne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o deliver enhanced performance keyword in this architecture is pipeli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ipeline in ARM 11 differs from all the previous families of ARM cores in number of stages it implements (8 stages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enable 40 % better output then all previous cor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avoids delays in pipeline by using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forwarding and branch predi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se techniques provide great efficiency by reducing pipeline </a:t>
            </a:r>
            <a:r>
              <a:rPr b="0" i="1" lang="en-US" sz="3000" spc="-1" strike="noStrike">
                <a:solidFill>
                  <a:srgbClr val="4e3b30"/>
                </a:solidFill>
                <a:latin typeface="Franklin Gothic Book"/>
              </a:rPr>
              <a:t>stall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RM 11 microarchitecture pipeline is scalar (issues one instruction at the time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mproved memory access gives better overall performance significantly in ARM 11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nstructions and data remain in caches longer which in turn reduces cache misse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One of the major improvements in ARM 11 cores is non – blocking operation of memor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3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76960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ven with  pipeline  that has single issue instruction ARM 11 still manages to provide parallelism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Parallelism is implemented at the back end of pipeline where we have separate units for ALU and separate units for LS (load and store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o maximize parallel pipeline ARM 11 enables </a:t>
            </a:r>
            <a:r>
              <a:rPr b="0" i="1" lang="en-US" sz="3000" spc="-1" strike="noStrike">
                <a:solidFill>
                  <a:srgbClr val="4e3b30"/>
                </a:solidFill>
                <a:latin typeface="Franklin Gothic Book"/>
              </a:rPr>
              <a:t>out – of – order completion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(instructions don’t have dependencies on outcome of  previous instruction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n some applications there is need for 64 – bit processor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RM 11 delivers 64 – bit structure without actually implementing the 64 – bit solu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64 – bit data buses between processor integer unit and instruction and data caches and also between coprocessors and integer unit (64 – bit path allows two instructions to be fetched from cache in one cycle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is gives great performanc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supports floating point as design option (cores with and cores without floating point processing units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supports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ava Decod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6 SIMD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IA Instructions (as coprocessors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erformance Range (350 MHz - &gt; 1GHz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family of processors is widely used in many are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me of the exampl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Pho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Pod Touc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VIDIA GoForce 610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okia E71 smartpho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nd many more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ARM 11 Microarchitecture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vid Cormie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pril 200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www.cs.uiuc.edu/class/fa05/cs433ug/PROCESSORS/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ARM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%2011%20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MicroArchitecture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.pdf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ww.arm.com (ARM 11 documentation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ww.wikipedia.or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eviously known as Advanced RISC Machi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architecture is 32 – bit RISC processor architectu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veloped by ARM Limit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idely used in embedded syste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family compromises four series of processors that implement the ARM architecture v6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RM 11 is the first implementation of the ARMv6 instruction set architectur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t is the base for all family of ARM 11 core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key objective in developing ARM 11 microarchitecture was to deliver high performance and low power  consumption together with low pric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RM 11 has impact on wide variety of applications in wireless, consumer, networking and automotive segmen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uperior performance of ARM 11 cores is possible because of ARMv6 architectu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v6 delivers superior performance trough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dia processing extens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mproved cache architectu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mproved exception and interrupt handl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naligned and mixed – endian data suppor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is Reduced Instruction Set Computer (RISC) and it incorporates following featur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arge uniform register fi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ad/store architecture where data – processing operations only operate on register contents and not directly on memo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mple addressing modes with all load/store addresses being determined from register contents and instruction fields onl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 addition ARM 11 architecture provides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rol over ALU and the shifter in most data processing instructions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uto increment and auto decrement addressing modes to optimize program loo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ad and store multiple instructions to maximize data throughpu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ditional execution on almost all instructions to maximize execution throughpu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has 31 general purpose 32-bit registers and 6 status regist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any of times only 16 of these registers are visible and the others are used to speed up exception processing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 of those 16 visible registers have special roles (stack pointer, link register and program counter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supports 7 types of exception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se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tempted execution of undefined instru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ftware interrupts instru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efetch abor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 abor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RQ normal interrup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Q fast interrup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instruction set can be divided in 6 classes of instruction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ranch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 processing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tatus register transfer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ad and store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processors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ception generating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23:41:27Z</dcterms:created>
  <dc:creator>igor</dc:creator>
  <dc:description/>
  <dc:language>en-US</dc:language>
  <cp:lastModifiedBy>Alex</cp:lastModifiedBy>
  <dcterms:modified xsi:type="dcterms:W3CDTF">2012-01-09T15:31:18Z</dcterms:modified>
  <cp:revision>24</cp:revision>
  <dc:subject/>
  <dc:title>ARM 11 Arm Architecture</dc:title>
</cp:coreProperties>
</file>